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38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3.jpeg" ContentType="image/jpeg"/>
  <Override PartName="/ppt/media/image23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33.jpeg" ContentType="image/jpeg"/>
  <Override PartName="/ppt/media/image10.png" ContentType="image/png"/>
  <Override PartName="/ppt/media/image27.jpeg" ContentType="image/jpeg"/>
  <Override PartName="/ppt/media/image34.png" ContentType="image/png"/>
  <Override PartName="/ppt/media/image12.jpeg" ContentType="image/jpeg"/>
  <Override PartName="/ppt/media/image39.png" ContentType="image/png"/>
  <Override PartName="/ppt/media/image41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2.png" ContentType="image/png"/>
  <Override PartName="/ppt/media/image30.jpeg" ContentType="image/jpeg"/>
  <Override PartName="/ppt/media/image43.png" ContentType="image/png"/>
  <Override PartName="/ppt/media/image37.png" ContentType="image/png"/>
  <Override PartName="/ppt/media/image7.png" ContentType="image/png"/>
  <Override PartName="/ppt/media/image9.jpeg" ContentType="image/jpeg"/>
  <Override PartName="/ppt/media/image4.jpeg" ContentType="image/jpeg"/>
  <Override PartName="/ppt/media/image40.png" ContentType="image/png"/>
  <Override PartName="/ppt/media/image24.png" ContentType="image/png"/>
  <Override PartName="/ppt/media/image11.jpeg" ContentType="image/jpeg"/>
  <Override PartName="/ppt/media/image8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686A-0DCD-4510-B082-D89C978F24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ebook has grown from 70 to 200 million user in the past year (70 percent outside the U.S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C2DD-E600-4B4E-933F-15C283DB98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ustrma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5836-6FC9-4003-B05E-B97AD8C573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1A6A-7265-4012-B631-2F01F33B7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AB6F-A939-4242-A014-2DA01FC3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1595-1F50-44D9-852B-FE1CB5030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0CB6-BA6F-4363-B942-3D9E810BB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BF6D-BC8E-423C-907A-FF994D870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7CC2-7227-4C00-B61F-70D4AC1E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D3A7-E650-4831-935F-3F895976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95DE-7544-4268-8EB1-5036B76C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A8F3-77CF-45EE-B72E-F859E3FF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DED1-268C-4505-BD36-BBA08299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6002-DBE4-4A4A-A443-32F643EB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E7EB-FEE0-43ED-9D4A-44F7A64D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98C7-069C-4A28-A4B3-0C070BD3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778D-D168-4475-9995-B47820EE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699B-079C-4686-A224-60C19B41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A916-8AAC-4847-B7A2-903DD02A7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88E5-92A5-46BF-8105-77411790B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D026A-0217-40F9-9B0E-90CE45261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CCD41-4DBA-4E2E-850A-F8D0924B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36D36-CBD1-4EA3-B5A8-4E771F3C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7B4A5-4876-49DC-A74F-3E998891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AEF5D-6C9C-42B1-BE74-E12B9A72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61E2-5A4F-44C6-9CD8-4C4FFB5A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82A29-CF7B-4D55-AC7D-79A3BC0A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F616D-CF29-4986-B939-65915FA4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5429C-452B-408B-8D3D-B9B104B7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B7589-5D8A-49B7-963B-7CB63E92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C4F1D-8081-4BD1-89E4-BA02FFFD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09CE4-4BF8-4CB6-AECA-EC15306A9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BB202-2E78-4261-BFE9-D47C8FC48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46CB5-DE70-4C27-B37D-B5BBEC9F1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DF45E-FB83-4EA3-AC9E-4BC8DF82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DAC3A-021D-46CD-9596-FFF08378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30D5-3183-4EA6-9D57-E7B064C9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937EB-AEF0-4A3C-9035-7A95EB23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34DFD-23BC-4BF8-9739-1A1A18B4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ECB70-0622-4FCD-A1DB-116EB1C5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672CC-9A18-436C-BB15-A3EF15E7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C59F5-FE1C-433A-9495-9AA7F276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F456B-E546-4DF4-B562-0FF24F3E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C294A-59CC-4368-855A-32075F18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BAE67-26EE-4181-B9EE-7C8244A07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156F2-491A-4E9B-8AFE-5FFBA29B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C3C26-5D81-492D-B653-247614689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E815-EA84-4797-A979-7E3D46AD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BAF17-DBA0-4E96-93B5-6AB72FBF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46882-43D5-416D-99BD-7E92C334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47033-56C7-4D89-BB70-2B6229B4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D919F-8C4B-4197-93B4-35DE846A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E379F-F714-4C33-83CD-9EF77004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88B38-211D-44DD-8A6C-8DAD8E26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C5A0F-E355-4957-9C8C-69B5820A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A43DD-9780-42F6-A03A-FCF1B931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BFBD0-392B-4872-B6CD-94715114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EFCCD-035C-4A3C-9A04-DD127FC12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C3C4-DA2F-4861-B856-7EEE2BF0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6EE4C-03CC-4669-BA97-8EE55B6B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D5446-A981-4738-A4B7-E9A68F5B2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6A559-5381-4F40-A1FF-9BF42D4D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AEB6F-D19D-4DEB-B266-C287C0E9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FCFE8-D3F9-4C76-AF1B-07CAC492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63ABD-8F67-4C3A-A8F8-07B4F130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0F084-E2CA-4F0B-ABA4-4D8BB8C7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25CD5-7F73-44D6-8733-CA0DE4FD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605C2-3A80-4A49-86C4-8B225758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91030-2656-42CA-9A6B-DE52E472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F3CE-1825-418F-A2DD-51D6F0F9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9AC0F-B832-43C6-BDCD-13A12512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7BCAE-4F36-44AB-B735-86033D465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02DEB-BCE8-48F8-933B-10CA8B8F1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9D4B-94A9-49F8-A4AD-B0CBA512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6DB9-9CF5-4CFE-8ED4-78AF4D31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AE79-E35A-4059-8419-5D8B684DCED6}" type="slidenum">
              <a:rPr b="0" lang="en-US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Straight Connector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Straight Connector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Straight Connector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60" name="Straight Connector 12" descr=""/>
            <p:cNvPicPr/>
            <p:nvPr/>
          </p:nvPicPr>
          <p:blipFill>
            <a:blip r:embed="rId5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0E7A-973C-4F78-A651-2CC5A48DE001}" type="slidenum">
              <a:rPr b="0" lang="en-US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4" name="Straight Connector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7" name="Straight Connector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0" name="Straight Connector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6D4C-F914-43D6-8888-EF50A7DDC3E8}" type="slidenum">
              <a:rPr b="0" lang="en-US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4" name="Straight Connector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7" name="Straight Connector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60" name="Straight Connector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63" name="Straight Connector 12" descr=""/>
            <p:cNvPicPr/>
            <p:nvPr/>
          </p:nvPicPr>
          <p:blipFill>
            <a:blip r:embed="rId5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9E20-E0E2-4264-8BDA-CB52AD1FDEC1}" type="slidenum">
              <a:rPr b="0" lang="en-US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7" name="Straight Connector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0" name="Straight Connector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3" name="Straight Connector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6" name="Straight Connector 12" descr=""/>
            <p:cNvPicPr/>
            <p:nvPr/>
          </p:nvPicPr>
          <p:blipFill>
            <a:blip r:embed="rId5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2104-257A-42B4-A833-60C0C883D6FE}" type="slidenum">
              <a:rPr b="0" lang="en-US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0" name="Straight Connector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3" name="Straight Connector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6" name="Straight Connector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9" name="Straight Connector 12" descr=""/>
            <p:cNvPicPr/>
            <p:nvPr/>
          </p:nvPicPr>
          <p:blipFill>
            <a:blip r:embed="rId5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9C89-D427-49D8-B102-93F64C736AAF}" type="slidenum">
              <a:rPr b="0" lang="en-US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classblogmeister.com/blog.php?blogger_id=1337" TargetMode="External"/><Relationship Id="rId3" Type="http://schemas.openxmlformats.org/officeDocument/2006/relationships/hyperlink" Target="http://www.mrsgoerend.com/" TargetMode="External"/><Relationship Id="rId4" Type="http://schemas.openxmlformats.org/officeDocument/2006/relationships/hyperlink" Target="http://classblogmeister.com/blog.php?blogger_id=51141" TargetMode="External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hyperlink" Target="http://www.clustrmaps.com/" TargetMode="External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www.flickr.com/groups/classrmdisplays/" TargetMode="External"/><Relationship Id="rId3" Type="http://schemas.openxmlformats.org/officeDocument/2006/relationships/hyperlink" Target="http://www.schooltube.com/video/122c68aae32a4c97b68e/Our-Spider-Reports" TargetMode="External"/><Relationship Id="rId4" Type="http://schemas.openxmlformats.org/officeDocument/2006/relationships/hyperlink" Target="http://www.youtube.com/" TargetMode="External"/><Relationship Id="rId5" Type="http://schemas.openxmlformats.org/officeDocument/2006/relationships/hyperlink" Target="http://www.teachertube.com/" TargetMode="External"/><Relationship Id="rId6" Type="http://schemas.openxmlformats.org/officeDocument/2006/relationships/hyperlink" Target="http://voicethread.com/#q+1st+grade.b220138.i1149087" TargetMode="External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www.delicious.com/" TargetMode="External"/><Relationship Id="rId3" Type="http://schemas.openxmlformats.org/officeDocument/2006/relationships/hyperlink" Target="http://livebinders.com/" TargetMode="External"/><Relationship Id="rId4" Type="http://schemas.openxmlformats.org/officeDocument/2006/relationships/hyperlink" Target="http://www.animoto.com/" TargetMode="External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hyperlink" Target="http://www.salem.k12.va.us/west/podcasts/0708/gingerbread.mp3" TargetMode="External"/><Relationship Id="rId3" Type="http://schemas.openxmlformats.org/officeDocument/2006/relationships/hyperlink" Target="http://millard.esu3.org/willow/radio/shows/Willowcast32.html" TargetMode="External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hyperlink" Target="http://www.cozi.com/" TargetMode="External"/><Relationship Id="rId3" Type="http://schemas.openxmlformats.org/officeDocument/2006/relationships/hyperlink" Target="http://www.rememberthemilk.com/" TargetMode="External"/><Relationship Id="rId4" Type="http://schemas.openxmlformats.org/officeDocument/2006/relationships/hyperlink" Target="http://tadalist.com/" TargetMode="External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hyperlink" Target="http://www.skype.com/" TargetMode="External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hyperlink" Target="http://www.netsmartzkids.org/indexFL.htm" TargetMode="External"/><Relationship Id="rId3" Type="http://schemas.openxmlformats.org/officeDocument/2006/relationships/hyperlink" Target="http://www.safekids.com/" TargetMode="External"/><Relationship Id="rId4" Type="http://schemas.openxmlformats.org/officeDocument/2006/relationships/hyperlink" Target="http://www.wiredkids.org/" TargetMode="External"/><Relationship Id="rId5" Type="http://schemas.openxmlformats.org/officeDocument/2006/relationships/hyperlink" Target="http://kids.getnetwise.org/safetyguide/" TargetMode="External"/><Relationship Id="rId6" Type="http://schemas.openxmlformats.org/officeDocument/2006/relationships/hyperlink" Target="http://www.cyberangels.org/kids/index.html" TargetMode="External"/><Relationship Id="rId7" Type="http://schemas.openxmlformats.org/officeDocument/2006/relationships/hyperlink" Target="http://www.google.com/Top/Computers/Internet/Child_Safety/" TargetMode="External"/><Relationship Id="rId8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396720" y="268200"/>
            <a:ext cx="8461440" cy="1951200"/>
          </a:xfrm>
          <a:prstGeom prst="rect">
            <a:avLst/>
          </a:prstGeom>
          <a:ln w="0">
            <a:noFill/>
          </a:ln>
        </p:spPr>
      </p:pic>
      <p:pic>
        <p:nvPicPr>
          <p:cNvPr id="320" name="Content Placeholder 3" descr="techworker.jpg"/>
          <p:cNvPicPr/>
          <p:nvPr/>
        </p:nvPicPr>
        <p:blipFill>
          <a:blip r:embed="rId2"/>
          <a:stretch/>
        </p:blipFill>
        <p:spPr>
          <a:xfrm>
            <a:off x="304920" y="2819520"/>
            <a:ext cx="4647960" cy="36050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factory.jpg"/>
          <p:cNvPicPr/>
          <p:nvPr/>
        </p:nvPicPr>
        <p:blipFill>
          <a:blip r:embed="rId3"/>
          <a:stretch/>
        </p:blipFill>
        <p:spPr>
          <a:xfrm>
            <a:off x="5715000" y="2514600"/>
            <a:ext cx="2987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"/>
          <p:cNvPicPr/>
          <p:nvPr/>
        </p:nvPicPr>
        <p:blipFill>
          <a:blip r:embed="rId2"/>
          <a:srcRect l="7814" t="20832" r="10158" b="8460"/>
          <a:stretch/>
        </p:blipFill>
        <p:spPr>
          <a:xfrm>
            <a:off x="228600" y="1219320"/>
            <a:ext cx="8153280" cy="5270400"/>
          </a:xfrm>
          <a:prstGeom prst="rect">
            <a:avLst/>
          </a:prstGeom>
          <a:ln w="0">
            <a:noFill/>
          </a:ln>
        </p:spPr>
      </p:pic>
      <p:sp>
        <p:nvSpPr>
          <p:cNvPr id="354" name="Content Placeholder 2"/>
          <p:cNvSpPr/>
          <p:nvPr/>
        </p:nvSpPr>
        <p:spPr>
          <a:xfrm>
            <a:off x="5867280" y="5638680"/>
            <a:ext cx="4114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Made with Wordle http://wordle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Lucida Grande"/>
                <a:ea typeface="Lucida Grande"/>
              </a:rPr>
              <a:t>A social networking site is an online location where a user can create a profile, build a personal network, and connect to other users.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901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Book"/>
              </a:rPr>
              <a:t>Facebook, MySpace, Bebo, etc. 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605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Franklin Gothic Book"/>
              </a:rPr>
              <a:t>No</a:t>
            </a: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Franklin Gothic Book"/>
              </a:rPr>
              <a:t>Yes</a:t>
            </a: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2"/>
          <a:srcRect l="22220" t="24592" r="20957" b="13760"/>
          <a:stretch/>
        </p:blipFill>
        <p:spPr>
          <a:xfrm>
            <a:off x="2209680" y="1447920"/>
            <a:ext cx="6324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937720" cy="14875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26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f497d"/>
                </a:solidFill>
                <a:latin typeface="Franklin Gothic Book"/>
              </a:rPr>
              <a:t>Blog</a:t>
            </a:r>
            <a:endParaRPr b="0" lang="en-US" sz="2900" spc="-1" strike="noStrike">
              <a:solidFill>
                <a:srgbClr val="1f497d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(n.) Short for </a:t>
            </a:r>
            <a:r>
              <a:rPr b="0" i="1" lang="en-US" sz="3200" spc="-1" strike="noStrike">
                <a:solidFill>
                  <a:srgbClr val="1f497d"/>
                </a:solidFill>
                <a:latin typeface="Franklin Gothic Book"/>
              </a:rPr>
              <a:t>Web log</a:t>
            </a: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, a blog is a Web page that serves as a publicly accessible personal journal for an individual.  Typically updated daily, blogs often reflect the personality of the author.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(v.) To author a Web log.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Other forms: Blogger (a person who blogs).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  <a:p>
            <a:pPr marL="322200" indent="-322200" algn="r">
              <a:lnSpc>
                <a:spcPct val="80000"/>
              </a:lnSpc>
              <a:spcBef>
                <a:spcPts val="45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Franklin Gothic Book"/>
              </a:rPr>
              <a:t>- Webopedia.com</a:t>
            </a:r>
            <a:endParaRPr b="0" lang="en-US" sz="1800" spc="-1" strike="noStrike">
              <a:solidFill>
                <a:srgbClr val="1f497d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304920" y="1981080"/>
            <a:ext cx="8686800" cy="2286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le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937720" cy="14875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Book"/>
              </a:rPr>
              <a:t>Blogs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Franklin Gothic Book"/>
                <a:hlinkClick r:id="rId2"/>
              </a:rPr>
              <a:t>Mrs. Cassidy’s Classroom Blog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Franklin Gothic Book"/>
                <a:hlinkClick r:id="rId3"/>
              </a:rPr>
              <a:t>Mrs. Goerend’s Blog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Franklin Gothic Book"/>
                <a:hlinkClick r:id="rId4"/>
              </a:rPr>
              <a:t>The KinderKids Blog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365" name="Picture 5" descr="blog_logo1.jpg"/>
          <p:cNvPicPr/>
          <p:nvPr/>
        </p:nvPicPr>
        <p:blipFill>
          <a:blip r:embed="rId5"/>
          <a:stretch/>
        </p:blipFill>
        <p:spPr>
          <a:xfrm>
            <a:off x="5068800" y="3352680"/>
            <a:ext cx="3618000" cy="2408400"/>
          </a:xfrm>
          <a:prstGeom prst="rect">
            <a:avLst/>
          </a:prstGeom>
          <a:ln w="0">
            <a:noFill/>
          </a:ln>
        </p:spPr>
      </p:pic>
      <p:sp>
        <p:nvSpPr>
          <p:cNvPr id="366" name="TextBox 6"/>
          <p:cNvSpPr/>
          <p:nvPr/>
        </p:nvSpPr>
        <p:spPr>
          <a:xfrm>
            <a:off x="6324480" y="59436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Photo by Edgar (Cross) Khachatry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Blogger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901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Book"/>
              </a:rPr>
              <a:t>Part of Google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Edublogs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Wordpress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Franklin Gothic Book"/>
                <a:hlinkClick r:id="rId2"/>
              </a:rPr>
              <a:t>Clustrmaps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369" name="Picture 3" descr="blogger.png"/>
          <p:cNvPicPr/>
          <p:nvPr/>
        </p:nvPicPr>
        <p:blipFill>
          <a:blip r:embed="rId3"/>
          <a:stretch/>
        </p:blipFill>
        <p:spPr>
          <a:xfrm>
            <a:off x="5410080" y="1371600"/>
            <a:ext cx="3022560" cy="2266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4" descr="images.jpg"/>
          <p:cNvPicPr/>
          <p:nvPr/>
        </p:nvPicPr>
        <p:blipFill>
          <a:blip r:embed="rId4"/>
          <a:stretch/>
        </p:blipFill>
        <p:spPr>
          <a:xfrm>
            <a:off x="4033800" y="2881440"/>
            <a:ext cx="1736640" cy="17668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5" descr="wordpress-plugins.jpg"/>
          <p:cNvPicPr/>
          <p:nvPr/>
        </p:nvPicPr>
        <p:blipFill>
          <a:blip r:embed="rId5"/>
          <a:stretch/>
        </p:blipFill>
        <p:spPr>
          <a:xfrm>
            <a:off x="5562720" y="3505320"/>
            <a:ext cx="306684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937720" cy="148752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Social Media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901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Franklin Gothic Book"/>
                <a:hlinkClick r:id="rId2"/>
              </a:rPr>
              <a:t>Flickr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901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Franklin Gothic Book"/>
                <a:hlinkClick r:id="rId3"/>
              </a:rPr>
              <a:t>SchoolTube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901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Franklin Gothic Book"/>
                <a:hlinkClick r:id="rId4"/>
              </a:rPr>
              <a:t>YouTube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901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Franklin Gothic Book"/>
                <a:hlinkClick r:id="rId5"/>
              </a:rPr>
              <a:t>TeacherTube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901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Franklin Gothic Book"/>
                <a:hlinkClick r:id="rId6"/>
              </a:rPr>
              <a:t>Voicethread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374" name="Picture 3" descr="2945559128_53078d246b.jpg"/>
          <p:cNvPicPr/>
          <p:nvPr/>
        </p:nvPicPr>
        <p:blipFill>
          <a:blip r:embed="rId7"/>
          <a:stretch/>
        </p:blipFill>
        <p:spPr>
          <a:xfrm>
            <a:off x="4343400" y="2590920"/>
            <a:ext cx="4389480" cy="3666960"/>
          </a:xfrm>
          <a:prstGeom prst="rect">
            <a:avLst/>
          </a:prstGeom>
          <a:ln w="0">
            <a:noFill/>
          </a:ln>
        </p:spPr>
      </p:pic>
      <p:sp>
        <p:nvSpPr>
          <p:cNvPr id="375" name="TextBox 4"/>
          <p:cNvSpPr/>
          <p:nvPr/>
        </p:nvSpPr>
        <p:spPr>
          <a:xfrm>
            <a:off x="6324480" y="63244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Graphic by Matt Ha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937720" cy="14875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Franklin Gothic Book"/>
                <a:hlinkClick r:id="rId2"/>
              </a:rPr>
              <a:t>Delicious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PJApple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901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Franklin Gothic Book"/>
                <a:hlinkClick r:id="rId3"/>
              </a:rPr>
              <a:t>Livebinder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901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Franklin Gothic Book"/>
                <a:hlinkClick r:id="rId4"/>
              </a:rPr>
              <a:t>Animoto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901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Book"/>
              </a:rPr>
              <a:t>Photostory 3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ree download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378" name="Picture 3" descr="9909_04_1898---Old-tools-and-spanners_web.jpg"/>
          <p:cNvPicPr/>
          <p:nvPr/>
        </p:nvPicPr>
        <p:blipFill>
          <a:blip r:embed="rId5"/>
          <a:stretch/>
        </p:blipFill>
        <p:spPr>
          <a:xfrm>
            <a:off x="5181480" y="1600200"/>
            <a:ext cx="270540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Book"/>
              </a:rPr>
              <a:t>Podcast - (iPOD broadCAST) An audio broadcast that has been converted to an audio file format for playback in a digital music player. (Although many podcasts are played on a regular computer.)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Franklin Gothic Book"/>
              </a:rPr>
              <a:t>- pcmag.com</a:t>
            </a: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520" y="4852800"/>
            <a:ext cx="84582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a3f6d"/>
              </a:solidFill>
              <a:latin typeface="Franklin Gothic Book"/>
            </a:endParaRPr>
          </a:p>
        </p:txBody>
      </p:sp>
      <p:pic>
        <p:nvPicPr>
          <p:cNvPr id="324" name="Picture 3" descr="2870711774_f77ef43fee.jpg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325" name="TextBox 4"/>
          <p:cNvSpPr/>
          <p:nvPr/>
        </p:nvSpPr>
        <p:spPr>
          <a:xfrm>
            <a:off x="914400" y="380880"/>
            <a:ext cx="73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tique Olive"/>
              </a:rPr>
              <a:t>Preparing Students for the 21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ntique Olive"/>
              </a:rPr>
              <a:t>st</a:t>
            </a:r>
            <a:r>
              <a:rPr b="1" lang="en-US" sz="4400" spc="-1" strike="noStrike">
                <a:solidFill>
                  <a:srgbClr val="000000"/>
                </a:solidFill>
                <a:latin typeface="Antique Olive"/>
              </a:rPr>
              <a:t> Cent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6" descr="88x31.png"/>
          <p:cNvPicPr/>
          <p:nvPr/>
        </p:nvPicPr>
        <p:blipFill>
          <a:blip r:embed="rId2"/>
          <a:stretch/>
        </p:blipFill>
        <p:spPr>
          <a:xfrm>
            <a:off x="7391520" y="617220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Franklin Gothic Book"/>
                <a:hlinkClick r:id="rId2"/>
              </a:rPr>
              <a:t>The Gingerbread Man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Franklin Gothic Book"/>
                <a:hlinkClick r:id="rId3"/>
              </a:rPr>
              <a:t>Radio WillowWeb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383" name="Picture 3" descr="2265202595_b41eda824d.jpg"/>
          <p:cNvPicPr/>
          <p:nvPr/>
        </p:nvPicPr>
        <p:blipFill>
          <a:blip r:embed="rId4"/>
          <a:stretch/>
        </p:blipFill>
        <p:spPr>
          <a:xfrm>
            <a:off x="4616280" y="3200400"/>
            <a:ext cx="3713400" cy="3111480"/>
          </a:xfrm>
          <a:prstGeom prst="rect">
            <a:avLst/>
          </a:prstGeom>
          <a:ln w="0">
            <a:noFill/>
          </a:ln>
        </p:spPr>
      </p:pic>
      <p:sp>
        <p:nvSpPr>
          <p:cNvPr id="384" name="TextBox 4"/>
          <p:cNvSpPr/>
          <p:nvPr/>
        </p:nvSpPr>
        <p:spPr>
          <a:xfrm>
            <a:off x="6629400" y="64008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Photo by Zoo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RSS Feeds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Alerts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Organization Tools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Franklin Gothic Book"/>
                <a:hlinkClick r:id="rId2"/>
              </a:rPr>
              <a:t>Cozi</a:t>
            </a:r>
            <a:endParaRPr b="0" lang="en-US" sz="28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Franklin Gothic Book"/>
                <a:hlinkClick r:id="rId3"/>
              </a:rPr>
              <a:t>Remember the Milk</a:t>
            </a:r>
            <a:endParaRPr b="0" lang="en-US" sz="28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Franklin Gothic Book"/>
                <a:hlinkClick r:id="rId4"/>
              </a:rPr>
              <a:t>Ta-Da Lists</a:t>
            </a:r>
            <a:endParaRPr b="0" lang="en-US" sz="28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Franklin Gothic Book"/>
                <a:hlinkClick r:id="rId2"/>
              </a:rPr>
              <a:t>Skype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Franklin Gothic Book"/>
              </a:rPr>
              <a:t>Bring the world into your classroom</a:t>
            </a:r>
            <a:endParaRPr b="0" lang="en-US" sz="28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389" name="Picture 3" descr="skype by Superkimbo in BKK.jpg"/>
          <p:cNvPicPr/>
          <p:nvPr/>
        </p:nvPicPr>
        <p:blipFill>
          <a:blip r:embed="rId3"/>
          <a:stretch/>
        </p:blipFill>
        <p:spPr>
          <a:xfrm>
            <a:off x="2286000" y="28195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tudents should not be online without supervision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each students to </a:t>
            </a:r>
            <a:r>
              <a:rPr b="1" lang="en-US" sz="3200" spc="-1" strike="noStrike">
                <a:solidFill>
                  <a:srgbClr val="1f497d"/>
                </a:solidFill>
                <a:latin typeface="Franklin Gothic Book"/>
              </a:rPr>
              <a:t>never</a:t>
            </a: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 give out personal information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each students to tell a parent or other trusted adult if they encounter something online that makes them uncomfortable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Begin to teach students how the Internet works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30492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Book"/>
              </a:rPr>
              <a:t>Parents must be educated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698400" indent="-268560">
              <a:lnSpc>
                <a:spcPct val="80000"/>
              </a:lnSpc>
              <a:spcBef>
                <a:spcPts val="751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Franklin Gothic Book"/>
              </a:rPr>
              <a:t>Parents should set clear use of Internet usage</a:t>
            </a:r>
            <a:endParaRPr b="0" lang="en-US" sz="30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074240" indent="-214560">
              <a:lnSpc>
                <a:spcPct val="80000"/>
              </a:lnSpc>
              <a:spcBef>
                <a:spcPts val="751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Franklin Gothic Book"/>
              </a:rPr>
              <a:t>Where can the child access the Internet?</a:t>
            </a:r>
            <a:endParaRPr b="0" lang="en-US" sz="30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698400" indent="-268560">
              <a:lnSpc>
                <a:spcPct val="80000"/>
              </a:lnSpc>
              <a:spcBef>
                <a:spcPts val="751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Franklin Gothic Book"/>
              </a:rPr>
              <a:t>Computers should be in a shared family space</a:t>
            </a:r>
            <a:endParaRPr b="0" lang="en-US" sz="30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698400" indent="-268560">
              <a:lnSpc>
                <a:spcPct val="80000"/>
              </a:lnSpc>
              <a:spcBef>
                <a:spcPts val="751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Franklin Gothic Book"/>
              </a:rPr>
              <a:t>Children should never be online without supervision</a:t>
            </a:r>
            <a:endParaRPr b="0" lang="en-US" sz="30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698400" indent="-268560">
              <a:lnSpc>
                <a:spcPct val="80000"/>
              </a:lnSpc>
              <a:spcBef>
                <a:spcPts val="751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Franklin Gothic Book"/>
              </a:rPr>
              <a:t>Children should not give out personal information</a:t>
            </a:r>
            <a:endParaRPr b="0" lang="en-US" sz="30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698400" indent="-268560">
              <a:lnSpc>
                <a:spcPct val="80000"/>
              </a:lnSpc>
              <a:spcBef>
                <a:spcPts val="751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Franklin Gothic Book"/>
              </a:rPr>
              <a:t>Parents should help children create usernames</a:t>
            </a:r>
            <a:endParaRPr b="0" lang="en-US" sz="30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074240" indent="-214560">
              <a:lnSpc>
                <a:spcPct val="80000"/>
              </a:lnSpc>
              <a:spcBef>
                <a:spcPts val="751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Franklin Gothic Book"/>
              </a:rPr>
              <a:t>Username should not identify age or gender</a:t>
            </a:r>
            <a:endParaRPr b="0" lang="en-US" sz="30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698400" indent="-268560">
              <a:lnSpc>
                <a:spcPct val="80000"/>
              </a:lnSpc>
              <a:spcBef>
                <a:spcPts val="751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Franklin Gothic Book"/>
                <a:hlinkClick r:id="rId2"/>
              </a:rPr>
              <a:t>NetSmartzKids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Franklin Gothic Book"/>
                <a:hlinkClick r:id="rId3"/>
              </a:rPr>
              <a:t>SafeKids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Franklin Gothic Book"/>
                <a:hlinkClick r:id="rId4"/>
              </a:rPr>
              <a:t>WiredKids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Franklin Gothic Book"/>
                <a:hlinkClick r:id="rId5"/>
              </a:rPr>
              <a:t>GetNetWise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Franklin Gothic Book"/>
                <a:hlinkClick r:id="rId6"/>
              </a:rPr>
              <a:t>CyberAngels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Franklin Gothic Book"/>
                <a:hlinkClick r:id="rId7"/>
              </a:rPr>
              <a:t>Google Resources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152280" y="1523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Franklin Gothic Book"/>
              </a:rPr>
              <a:t>American Association of School Librarians. (2007). Standards for the 21</a:t>
            </a:r>
            <a:r>
              <a:rPr b="0" lang="en-US" sz="1800" spc="-1" strike="noStrike" baseline="30000">
                <a:solidFill>
                  <a:srgbClr val="1f497d"/>
                </a:solidFill>
                <a:latin typeface="Franklin Gothic Book"/>
              </a:rPr>
              <a:t>st</a:t>
            </a:r>
            <a:r>
              <a:rPr b="0" lang="en-US" sz="1800" spc="-1" strike="noStrike">
                <a:solidFill>
                  <a:srgbClr val="1f497d"/>
                </a:solidFill>
                <a:latin typeface="Franklin Gothic Book"/>
              </a:rPr>
              <a:t> Century Learner. http://www.ala.org/ala/mgrps/divs/aasl/guidelinesandstandards/learningstandards/AASL_Learning_Standards_2007.pdf.</a:t>
            </a:r>
            <a:endParaRPr b="0" lang="en-US" sz="1800" spc="-1" strike="noStrike">
              <a:solidFill>
                <a:srgbClr val="1f497d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Franklin Gothic Book"/>
              </a:rPr>
              <a:t>International Society for Technology in Education. (2007). National Educational Technology Standards (NETS•S)and Performance Indicators for Students. http://www.iste.org/Content/NavigationMenu/NETS/ForStudents/2007Standards/NETS_for_Students_2007_Standards.pdf</a:t>
            </a:r>
            <a:endParaRPr b="0" lang="en-US" sz="1800" spc="-1" strike="noStrike">
              <a:solidFill>
                <a:srgbClr val="1f497d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Franklin Gothic Book"/>
              </a:rPr>
              <a:t>Kaiser Family Foundation. (2010). Daily media use among children and teens up dramatically from five years ago. http://www.kff.org/entmedia/entmedia012010nr.cfm</a:t>
            </a:r>
            <a:endParaRPr b="0" lang="en-US" sz="1800" spc="-1" strike="noStrike">
              <a:solidFill>
                <a:srgbClr val="1f497d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Franklin Gothic Book"/>
              </a:rPr>
              <a:t>Kaiser Family Foundation. (2003). Zero to six: Electronic media in the lives of infants, toddlers and preschoolers. http://www.kff.org/entmedia/upload/Zero-to-Six-Electronic-Media-in-the-Lives-of-Infants-Toddlers-and-Preschoolers-PDF.pdf</a:t>
            </a:r>
            <a:endParaRPr b="0" lang="en-US" sz="1800" spc="-1" strike="noStrike">
              <a:solidFill>
                <a:srgbClr val="1f497d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Franklin Gothic Book"/>
              </a:rPr>
              <a:t>Partnership for 21</a:t>
            </a:r>
            <a:r>
              <a:rPr b="0" lang="en-US" sz="1800" spc="-1" strike="noStrike" baseline="30000">
                <a:solidFill>
                  <a:srgbClr val="1f497d"/>
                </a:solidFill>
                <a:latin typeface="Franklin Gothic Book"/>
              </a:rPr>
              <a:t>st</a:t>
            </a:r>
            <a:r>
              <a:rPr b="0" lang="en-US" sz="1800" spc="-1" strike="noStrike">
                <a:solidFill>
                  <a:srgbClr val="1f497d"/>
                </a:solidFill>
                <a:latin typeface="Franklin Gothic Book"/>
              </a:rPr>
              <a:t> Century Skills. (2009). Framework for 21</a:t>
            </a:r>
            <a:r>
              <a:rPr b="0" lang="en-US" sz="1800" spc="-1" strike="noStrike" baseline="30000">
                <a:solidFill>
                  <a:srgbClr val="1f497d"/>
                </a:solidFill>
                <a:latin typeface="Franklin Gothic Book"/>
              </a:rPr>
              <a:t>st</a:t>
            </a:r>
            <a:r>
              <a:rPr b="0" lang="en-US" sz="1800" spc="-1" strike="noStrike">
                <a:solidFill>
                  <a:srgbClr val="1f497d"/>
                </a:solidFill>
                <a:latin typeface="Franklin Gothic Book"/>
              </a:rPr>
              <a:t> Century Learning. http://www.21stcenturyskills.org/documents/P21_Framework.pdf</a:t>
            </a:r>
            <a:endParaRPr b="0" lang="en-US" sz="18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Franklin Gothic Book"/>
              </a:rPr>
              <a:t>Dr. Perri Applegate</a:t>
            </a:r>
            <a:endParaRPr b="0" lang="en-US" sz="28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Franklin Gothic Book"/>
              </a:rPr>
              <a:t>Director of Library Media/ITV</a:t>
            </a:r>
            <a:endParaRPr b="0" lang="en-US" sz="28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Franklin Gothic Book"/>
              </a:rPr>
              <a:t>Oklahoma State Department of Education</a:t>
            </a:r>
            <a:endParaRPr b="0" lang="en-US" sz="28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Franklin Gothic Book"/>
              </a:rPr>
              <a:t>Perri_Applegate@sde.state.ok.us</a:t>
            </a:r>
            <a:endParaRPr b="0" lang="en-US" sz="28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Franklin Gothic Book"/>
              </a:rPr>
              <a:t>405-521-2956</a:t>
            </a:r>
            <a:endParaRPr b="0" lang="en-US" sz="28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Franklin Gothic Book"/>
              </a:rPr>
              <a:t>Manuel Gonzales</a:t>
            </a:r>
            <a:endParaRPr b="0" lang="en-US" sz="28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Franklin Gothic Book"/>
              </a:rPr>
              <a:t>Coordinator Instructional Technology</a:t>
            </a:r>
            <a:endParaRPr b="0" lang="en-US" sz="28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Franklin Gothic Book"/>
              </a:rPr>
              <a:t>Oklahoma State Department of Education</a:t>
            </a:r>
            <a:endParaRPr b="0" lang="en-US" sz="28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All resources, including this PowerPoint are available at http://digitallifeguard.wikispaces.com/.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s is a wiki.  It is intended to be a collaborative project to increase the use of Web 2.0 tools in classrooms.  Feel free to use any resources you find here, but also please share great resources you come across.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328" name="Content Placeholder 3" descr="234877734_e4ee5c1279.jpg"/>
          <p:cNvPicPr/>
          <p:nvPr/>
        </p:nvPicPr>
        <p:blipFill>
          <a:blip r:embed="rId2"/>
          <a:stretch/>
        </p:blipFill>
        <p:spPr>
          <a:xfrm>
            <a:off x="914400" y="1554120"/>
            <a:ext cx="7315200" cy="4525920"/>
          </a:xfrm>
          <a:prstGeom prst="rect">
            <a:avLst/>
          </a:prstGeom>
          <a:ln w="0">
            <a:noFill/>
          </a:ln>
        </p:spPr>
      </p:pic>
      <p:sp>
        <p:nvSpPr>
          <p:cNvPr id="329" name="TextBox 4"/>
          <p:cNvSpPr/>
          <p:nvPr/>
        </p:nvSpPr>
        <p:spPr>
          <a:xfrm>
            <a:off x="2286000" y="6095880"/>
            <a:ext cx="891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- Image by POPOEV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304920" y="1371240"/>
            <a:ext cx="8686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It’s the world in which they live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332" name="Picture 7" descr="3279525046_658ebdd392.jpg"/>
          <p:cNvPicPr/>
          <p:nvPr/>
        </p:nvPicPr>
        <p:blipFill>
          <a:blip r:embed="rId2"/>
          <a:stretch/>
        </p:blipFill>
        <p:spPr>
          <a:xfrm>
            <a:off x="838080" y="2209680"/>
            <a:ext cx="2646360" cy="3962520"/>
          </a:xfrm>
          <a:prstGeom prst="rect">
            <a:avLst/>
          </a:prstGeom>
          <a:ln w="0">
            <a:noFill/>
          </a:ln>
        </p:spPr>
      </p:pic>
      <p:sp>
        <p:nvSpPr>
          <p:cNvPr id="333" name="TextBox 6"/>
          <p:cNvSpPr/>
          <p:nvPr/>
        </p:nvSpPr>
        <p:spPr>
          <a:xfrm>
            <a:off x="3657600" y="2514600"/>
            <a:ext cx="4800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2003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study on computer use of children found usag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31% - ages 0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70% - ages 4 -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44792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A 2009, Nielson study found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Kids aged 2-5 average 32+ hours/week of TV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Kids 6-11 about 28 hours per week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336" name="Picture 3" descr="1325772268_8f885c2c45.jpg"/>
          <p:cNvPicPr/>
          <p:nvPr/>
        </p:nvPicPr>
        <p:blipFill>
          <a:blip r:embed="rId2"/>
          <a:srcRect l="32003" t="6803" r="15199" b="17998"/>
          <a:stretch/>
        </p:blipFill>
        <p:spPr>
          <a:xfrm>
            <a:off x="5410080" y="1523880"/>
            <a:ext cx="34959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338" name="Content Placeholder 3" descr="mediau7.jpg"/>
          <p:cNvPicPr/>
          <p:nvPr/>
        </p:nvPicPr>
        <p:blipFill>
          <a:blip r:embed="rId2"/>
          <a:stretch/>
        </p:blipFill>
        <p:spPr>
          <a:xfrm>
            <a:off x="914400" y="1554120"/>
            <a:ext cx="7315200" cy="4525920"/>
          </a:xfrm>
          <a:prstGeom prst="rect">
            <a:avLst/>
          </a:prstGeom>
          <a:ln w="0">
            <a:noFill/>
          </a:ln>
        </p:spPr>
      </p:pic>
      <p:sp>
        <p:nvSpPr>
          <p:cNvPr id="339" name="TextBox 4"/>
          <p:cNvSpPr/>
          <p:nvPr/>
        </p:nvSpPr>
        <p:spPr>
          <a:xfrm>
            <a:off x="4343400" y="6172200"/>
            <a:ext cx="426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Book"/>
              </a:rPr>
              <a:t>Kaiser Generation M2- Kids/Youth/Media Survey (January 20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o prepare them for the world in which they will live as adults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342" name="Picture 3" descr="rainbow_web_0710.jpg"/>
          <p:cNvPicPr/>
          <p:nvPr/>
        </p:nvPicPr>
        <p:blipFill>
          <a:blip r:embed="rId2"/>
          <a:stretch/>
        </p:blipFill>
        <p:spPr>
          <a:xfrm>
            <a:off x="2133720" y="3581280"/>
            <a:ext cx="4733640" cy="2934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standards-cover.png"/>
          <p:cNvPicPr/>
          <p:nvPr/>
        </p:nvPicPr>
        <p:blipFill>
          <a:blip r:embed="rId3"/>
          <a:stretch/>
        </p:blipFill>
        <p:spPr>
          <a:xfrm>
            <a:off x="6553080" y="2647800"/>
            <a:ext cx="2152800" cy="26956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" descr="NESBO2.jpg"/>
          <p:cNvPicPr/>
          <p:nvPr/>
        </p:nvPicPr>
        <p:blipFill>
          <a:blip r:embed="rId4"/>
          <a:stretch/>
        </p:blipFill>
        <p:spPr>
          <a:xfrm>
            <a:off x="457200" y="2590920"/>
            <a:ext cx="2057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" descr=""/>
          <p:cNvPicPr/>
          <p:nvPr/>
        </p:nvPicPr>
        <p:blipFill>
          <a:blip r:embed="rId2"/>
          <a:srcRect l="8884" t="19483" r="10316" b="9459"/>
          <a:stretch/>
        </p:blipFill>
        <p:spPr>
          <a:xfrm>
            <a:off x="838080" y="1219320"/>
            <a:ext cx="7391520" cy="4875120"/>
          </a:xfrm>
          <a:prstGeom prst="rect">
            <a:avLst/>
          </a:prstGeom>
          <a:ln w="0">
            <a:noFill/>
          </a:ln>
        </p:spPr>
      </p:pic>
      <p:sp>
        <p:nvSpPr>
          <p:cNvPr id="347" name="Content Placeholder 2"/>
          <p:cNvSpPr/>
          <p:nvPr/>
        </p:nvSpPr>
        <p:spPr>
          <a:xfrm>
            <a:off x="5562720" y="5486400"/>
            <a:ext cx="4114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Made with Wordle http://wordle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Book"/>
              </a:rPr>
              <a:t>Critical thinking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Book"/>
              </a:rPr>
              <a:t>Problem solving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Book"/>
              </a:rPr>
              <a:t>Self-directed learning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Book"/>
              </a:rPr>
              <a:t>Collaboration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Book"/>
              </a:rPr>
              <a:t>Creating information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Book"/>
              </a:rPr>
              <a:t>Ethical information usage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Book"/>
              </a:rPr>
              <a:t>Flexibility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Book"/>
              </a:rPr>
              <a:t>Responsibility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21:50:11Z</dcterms:created>
  <dc:creator>Perri.Applegate</dc:creator>
  <dc:description/>
  <dc:language>en-US</dc:language>
  <cp:lastModifiedBy>Perri.Applegate</cp:lastModifiedBy>
  <dcterms:modified xsi:type="dcterms:W3CDTF">2010-02-24T15:55:07Z</dcterms:modified>
  <cp:revision>50</cp:revision>
  <dc:subject/>
  <dc:title>Slide 1</dc:title>
</cp:coreProperties>
</file>